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501-9B5A-4B40-8A92-3A2C6C26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52D-D5C8-4B89-A8CD-F1891446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A92-6373-4E8B-885D-67CFCB4B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203-3A8C-46EE-97EC-8C1E389B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E198-A3A4-47A1-859E-87945F9A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4D7E-9626-4FBD-8DB4-03E43A35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E00E-8720-4666-B631-77007650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D524-B7C1-41DB-96A7-EF4D7D70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5A13-38C9-4B53-AEE8-7FC35812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F5A6-F013-497E-88CD-7D2C5CC9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8035-F47F-40F2-AD4D-63C6C97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AFE-EC8E-49AC-BEE0-D743D618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F62D-23C4-4D39-8659-0EE32C7C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BCF4-DE37-47FC-BDC7-F5585BF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F63D-CE7D-4BBD-800A-5568B6B6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641E-1E9C-4504-8A8E-5AF62097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BB62-D595-4789-AE1A-5BC0D7A0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633-C2DB-44F5-860A-8D2E7980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154-5F11-44A2-8FE1-45FEB6DC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672-DA64-4C62-B35F-84DDA1E5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095-B96C-4665-BAD0-5240E58A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EF5-F18B-4611-A198-1A4620A9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8D2-0E9B-4951-BCD0-2933A4CA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437-AFE6-4FF2-AB22-D1351419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FD50-8B58-4280-8CAA-756A84B4B77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39AF-E865-4A03-B52D-004C93721BC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1143360"/>
            <a:ext cx="6870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raditional English breakfast consists of 4 dishes. What are they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5133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971800"/>
            <a:ext cx="70102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acon and eggs, a plate of porrid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a cup of tea, toast with marmal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40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